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525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5350-D133-47BA-A7F2-01D0D0074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424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4240" y="1981080"/>
            <a:ext cx="809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14240" y="4130640"/>
            <a:ext cx="809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C9CB-F77C-47F7-BE88-B22AA407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424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4240" y="1981080"/>
            <a:ext cx="395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3240" y="1981080"/>
            <a:ext cx="395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14240" y="4130640"/>
            <a:ext cx="395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63240" y="4130640"/>
            <a:ext cx="395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047F-548A-4427-AC2C-10794A8F4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424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4240" y="198108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1680" y="198108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9120" y="198108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14240" y="413064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1680" y="413064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9120" y="413064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9141-39A6-41EE-9AE4-FC5E8CBA3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424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14240" y="1981080"/>
            <a:ext cx="809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4DED-808B-48A1-A50B-C846EC2E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424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14240" y="1981080"/>
            <a:ext cx="809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9338-7EDB-4C06-8D19-56F0BB50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424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4240" y="1981080"/>
            <a:ext cx="395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63240" y="1981080"/>
            <a:ext cx="395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4C23-E888-4FD6-9ABD-5C0E7FD4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424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6F03-4171-465C-A36A-69BF9624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4240" y="609120"/>
            <a:ext cx="8096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76C7-FFD9-4F8D-9A6F-A8CBF75A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424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4240" y="1981080"/>
            <a:ext cx="395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63240" y="1981080"/>
            <a:ext cx="395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14240" y="4130640"/>
            <a:ext cx="395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7978-462F-4620-8229-2EC4381F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424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4240" y="1981080"/>
            <a:ext cx="395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63240" y="1981080"/>
            <a:ext cx="395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63240" y="4130640"/>
            <a:ext cx="395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DB9A-C229-4BAD-8DFF-949036AD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424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4240" y="1981080"/>
            <a:ext cx="395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63240" y="1981080"/>
            <a:ext cx="395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14240" y="4130640"/>
            <a:ext cx="809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B81E-A59B-4555-8911-B2CCD65A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424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4240" y="1981080"/>
            <a:ext cx="809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3880" y="6248520"/>
            <a:ext cx="1984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54400" y="6248520"/>
            <a:ext cx="301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6320" y="6248520"/>
            <a:ext cx="19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34CD-8E7F-4967-A5FE-ADBE70EC0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mailto:cdocumentacion_estadistica@buenosaires.gov.ar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9524880" cy="714240"/>
          </a:xfrm>
          <a:prstGeom prst="rect">
            <a:avLst/>
          </a:prstGeom>
          <a:solidFill>
            <a:srgbClr val="008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2990880" y="1428840"/>
            <a:ext cx="3543120" cy="4362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2"/>
          <a:stretch/>
        </p:blipFill>
        <p:spPr>
          <a:xfrm>
            <a:off x="190440" y="0"/>
            <a:ext cx="1971720" cy="6858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053"/>
          <p:cNvSpPr/>
          <p:nvPr/>
        </p:nvSpPr>
        <p:spPr>
          <a:xfrm>
            <a:off x="658800" y="1052640"/>
            <a:ext cx="7772400" cy="41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IIº Encuentro Nacional de Catalogadores 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25, 26, 27 de noviembre 2008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Biblioteca Nacional, Buenos Aires, Argentina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Verdana"/>
              </a:rPr>
              <a:t>Tratamiento documental de los instrumentos de recolección de datos: propuesta metodológica y aplicación en la Dirección General de Estadística y Censos de la Ciudad de Buenos Aires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5" name="Text Box 2055"/>
          <p:cNvSpPr/>
          <p:nvPr/>
        </p:nvSpPr>
        <p:spPr>
          <a:xfrm>
            <a:off x="762120" y="499428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6" name="Text Box 2056"/>
          <p:cNvSpPr/>
          <p:nvPr/>
        </p:nvSpPr>
        <p:spPr>
          <a:xfrm>
            <a:off x="762120" y="54100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Verdana"/>
              </a:rPr>
              <a:t>Silvia Texidor, Carolina Mutti</a:t>
            </a: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Verdana"/>
              </a:rPr>
              <a:t>27 de noviembre de 2009</a:t>
            </a: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3"/>
          <p:cNvSpPr/>
          <p:nvPr/>
        </p:nvSpPr>
        <p:spPr>
          <a:xfrm>
            <a:off x="0" y="0"/>
            <a:ext cx="9524880" cy="714240"/>
          </a:xfrm>
          <a:prstGeom prst="rect">
            <a:avLst/>
          </a:prstGeom>
          <a:solidFill>
            <a:srgbClr val="008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2990880" y="1428840"/>
            <a:ext cx="3543120" cy="4362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"/>
          <p:cNvPicPr/>
          <p:nvPr/>
        </p:nvPicPr>
        <p:blipFill>
          <a:blip r:embed="rId2"/>
          <a:stretch/>
        </p:blipFill>
        <p:spPr>
          <a:xfrm>
            <a:off x="190440" y="0"/>
            <a:ext cx="1971720" cy="6858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028"/>
          <p:cNvSpPr/>
          <p:nvPr/>
        </p:nvSpPr>
        <p:spPr>
          <a:xfrm>
            <a:off x="685800" y="99072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Verdana"/>
              </a:rPr>
              <a:t>Tipología 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Verdana"/>
              </a:rPr>
              <a:t>Periodicidad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1" name="Rectangle 1029"/>
          <p:cNvSpPr/>
          <p:nvPr/>
        </p:nvSpPr>
        <p:spPr>
          <a:xfrm>
            <a:off x="658800" y="2209680"/>
            <a:ext cx="8229600" cy="42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2d2db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d2db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d2db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d2db9"/>
                </a:solidFill>
                <a:latin typeface="Verdana"/>
              </a:rPr>
              <a:t>Operativo permanente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: todo operativo que se realiza en forma sistemática en un período de tiempo determinado (mensual, anual, etc.)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d2db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d2db9"/>
                </a:solidFill>
                <a:latin typeface="Verdana"/>
              </a:rPr>
              <a:t>Operativo especial</a:t>
            </a:r>
            <a:r>
              <a:rPr b="0" lang="es-ES" sz="2400" spc="-1" strike="noStrike">
                <a:solidFill>
                  <a:srgbClr val="2d2db9"/>
                </a:solidFill>
                <a:latin typeface="Verdana"/>
              </a:rPr>
              <a:t>: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odo operativo que se realiza en forma asistemática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"/>
          <p:cNvSpPr/>
          <p:nvPr/>
        </p:nvSpPr>
        <p:spPr>
          <a:xfrm>
            <a:off x="0" y="0"/>
            <a:ext cx="9524880" cy="714240"/>
          </a:xfrm>
          <a:prstGeom prst="rect">
            <a:avLst/>
          </a:prstGeom>
          <a:solidFill>
            <a:srgbClr val="008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2990880" y="1428840"/>
            <a:ext cx="3543120" cy="4362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"/>
          <p:cNvPicPr/>
          <p:nvPr/>
        </p:nvPicPr>
        <p:blipFill>
          <a:blip r:embed="rId2"/>
          <a:stretch/>
        </p:blipFill>
        <p:spPr>
          <a:xfrm>
            <a:off x="190440" y="0"/>
            <a:ext cx="1971720" cy="6858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028"/>
          <p:cNvSpPr/>
          <p:nvPr/>
        </p:nvSpPr>
        <p:spPr>
          <a:xfrm>
            <a:off x="685800" y="99072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Verdana"/>
              </a:rPr>
              <a:t>Tipología 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Verdana"/>
              </a:rPr>
              <a:t>Procedencia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6" name="Rectangle 1029"/>
          <p:cNvSpPr/>
          <p:nvPr/>
        </p:nvSpPr>
        <p:spPr>
          <a:xfrm>
            <a:off x="658800" y="2209680"/>
            <a:ext cx="8229600" cy="42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2d2db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d2db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d2db9"/>
                </a:solidFill>
                <a:latin typeface="Verdana"/>
              </a:rPr>
              <a:t>Operativo interno</a:t>
            </a:r>
            <a:r>
              <a:rPr b="0" lang="es-ES_tradnl" sz="2400" spc="-1" strike="noStrike">
                <a:solidFill>
                  <a:srgbClr val="2d2db9"/>
                </a:solidFill>
                <a:latin typeface="Verdana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odo operativo diseñado y realizado el trabajo de campo en la DGEyC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d2db9"/>
                </a:solidFill>
                <a:latin typeface="Verdana"/>
              </a:rPr>
              <a:t>Operativo externo:</a:t>
            </a:r>
            <a:r>
              <a:rPr b="0" lang="es-ES_tradnl" sz="2400" spc="-1" strike="noStrike">
                <a:solidFill>
                  <a:srgbClr val="2d2db9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odo aquel operativo en el cual no interviene la DGEyC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3"/>
          <p:cNvSpPr/>
          <p:nvPr/>
        </p:nvSpPr>
        <p:spPr>
          <a:xfrm>
            <a:off x="0" y="0"/>
            <a:ext cx="9524880" cy="714240"/>
          </a:xfrm>
          <a:prstGeom prst="rect">
            <a:avLst/>
          </a:prstGeom>
          <a:solidFill>
            <a:srgbClr val="008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2990880" y="1428840"/>
            <a:ext cx="3543120" cy="4362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"/>
          <p:cNvPicPr/>
          <p:nvPr/>
        </p:nvPicPr>
        <p:blipFill>
          <a:blip r:embed="rId2"/>
          <a:stretch/>
        </p:blipFill>
        <p:spPr>
          <a:xfrm>
            <a:off x="190440" y="0"/>
            <a:ext cx="1971720" cy="6858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685800" y="83808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Verdana"/>
              </a:rPr>
              <a:t>Versiones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533520" y="2057400"/>
            <a:ext cx="83055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3333cc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Calibri"/>
              </a:rPr>
              <a:t>Cuando la novedad de la temática incorporada lo requiere o la magnitud de las modificaciones lo aconseja, se lleva a cabo una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  <a:ea typeface="Calibri"/>
              </a:rPr>
              <a:t>“prueba piloto”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Calibri"/>
              </a:rPr>
              <a:t> del cuestionario  completo o del módulo agregado.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Calibri"/>
              </a:rPr>
              <a:t>A partir de la experiencia de la prueba piloto, luego de probado el instrumento y hechas las modificaciones necesarias se definen y emiten los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  <a:ea typeface="Calibri"/>
              </a:rPr>
              <a:t>cuestionario/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Calibri"/>
              </a:rPr>
              <a:t>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  <a:ea typeface="Calibri"/>
              </a:rPr>
              <a:t>definitivo/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Calibri"/>
              </a:rPr>
              <a:t>.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Calibri"/>
              </a:rPr>
              <a:t>El juego de versiones se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  <a:ea typeface="Calibri"/>
              </a:rPr>
              <a:t>registr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Calibri"/>
              </a:rPr>
              <a:t> en forma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  <a:ea typeface="Calibri"/>
              </a:rPr>
              <a:t>separada</a:t>
            </a:r>
            <a:r>
              <a:rPr b="0" lang="es-ES" sz="2000" spc="-1" strike="noStrike">
                <a:solidFill>
                  <a:srgbClr val="3333cc"/>
                </a:solidFill>
                <a:latin typeface="Verdana"/>
                <a:ea typeface="Calibri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Calibri"/>
              </a:rPr>
              <a:t> pero se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  <a:ea typeface="Calibri"/>
              </a:rPr>
              <a:t>archiva en forma secuencia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Calibri"/>
              </a:rPr>
              <a:t>, asignándoles la misma signatura de clase y agregando el detalle de la versión a la signatura librística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0" y="0"/>
            <a:ext cx="9524880" cy="714240"/>
          </a:xfrm>
          <a:prstGeom prst="rect">
            <a:avLst/>
          </a:prstGeom>
          <a:solidFill>
            <a:srgbClr val="008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2990880" y="1428840"/>
            <a:ext cx="3543120" cy="4362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"/>
          <p:cNvPicPr/>
          <p:nvPr/>
        </p:nvPicPr>
        <p:blipFill>
          <a:blip r:embed="rId2"/>
          <a:stretch/>
        </p:blipFill>
        <p:spPr>
          <a:xfrm>
            <a:off x="190440" y="0"/>
            <a:ext cx="1971720" cy="6858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053"/>
          <p:cNvSpPr/>
          <p:nvPr/>
        </p:nvSpPr>
        <p:spPr>
          <a:xfrm>
            <a:off x="685800" y="83808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Verdana"/>
              </a:rPr>
              <a:t>Tratamiento formal (1)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6" name="Rectangle 2054"/>
          <p:cNvSpPr/>
          <p:nvPr/>
        </p:nvSpPr>
        <p:spPr>
          <a:xfrm>
            <a:off x="762120" y="1857240"/>
            <a:ext cx="83055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ítulo propiamente dicho: 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2d2db9"/>
                </a:solidFill>
                <a:latin typeface="Verdana"/>
              </a:rPr>
              <a:t>Encuesta de utilización de servicios para la </a:t>
            </a:r>
            <a:r>
              <a:rPr b="1" i="1" lang="es-ES_tradnl" sz="2400" spc="-1" strike="noStrike">
                <a:solidFill>
                  <a:srgbClr val="2d2db9"/>
                </a:solidFill>
                <a:latin typeface="Verdana"/>
              </a:rPr>
              <a:t>	</a:t>
            </a:r>
            <a:r>
              <a:rPr b="1" i="1" lang="es-ES_tradnl" sz="2400" spc="-1" strike="noStrike">
                <a:solidFill>
                  <a:srgbClr val="2d2db9"/>
                </a:solidFill>
                <a:latin typeface="Verdana"/>
              </a:rPr>
              <a:t>salud y gastos en atención médica 1980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3"/>
          <p:cNvSpPr/>
          <p:nvPr/>
        </p:nvSpPr>
        <p:spPr>
          <a:xfrm>
            <a:off x="0" y="0"/>
            <a:ext cx="9524880" cy="714240"/>
          </a:xfrm>
          <a:prstGeom prst="rect">
            <a:avLst/>
          </a:prstGeom>
          <a:solidFill>
            <a:srgbClr val="008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2990880" y="1428840"/>
            <a:ext cx="3543120" cy="4362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"/>
          <p:cNvPicPr/>
          <p:nvPr/>
        </p:nvPicPr>
        <p:blipFill>
          <a:blip r:embed="rId2"/>
          <a:stretch/>
        </p:blipFill>
        <p:spPr>
          <a:xfrm>
            <a:off x="190440" y="0"/>
            <a:ext cx="1971720" cy="6858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029"/>
          <p:cNvSpPr/>
          <p:nvPr/>
        </p:nvSpPr>
        <p:spPr>
          <a:xfrm>
            <a:off x="685800" y="83808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Verdana"/>
              </a:rPr>
              <a:t>Tratamiento formal (2)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1" name="Rectangle 1030"/>
          <p:cNvSpPr/>
          <p:nvPr/>
        </p:nvSpPr>
        <p:spPr>
          <a:xfrm>
            <a:off x="533520" y="1752480"/>
            <a:ext cx="8305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ubtítulo entre corchetes con la modalidad que requiere un título uniforme: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2d2db9"/>
                </a:solidFill>
                <a:latin typeface="Verdana"/>
              </a:rPr>
              <a:t>	</a:t>
            </a:r>
            <a:r>
              <a:rPr b="1" i="1" lang="es-ES_tradnl" sz="2400" spc="-1" strike="noStrike">
                <a:solidFill>
                  <a:srgbClr val="2d2db9"/>
                </a:solidFill>
                <a:latin typeface="Verdana"/>
              </a:rPr>
              <a:t>[instrumentos de recolección y apoyo al </a:t>
            </a:r>
            <a:r>
              <a:rPr b="1" i="1" lang="es-ES_tradnl" sz="2400" spc="-1" strike="noStrike">
                <a:solidFill>
                  <a:srgbClr val="2d2db9"/>
                </a:solidFill>
                <a:latin typeface="Verdana"/>
              </a:rPr>
              <a:t>	</a:t>
            </a:r>
            <a:r>
              <a:rPr b="1" i="1" lang="es-ES_tradnl" sz="2400" spc="-1" strike="noStrike">
                <a:solidFill>
                  <a:srgbClr val="2d2db9"/>
                </a:solidFill>
                <a:latin typeface="Verdana"/>
              </a:rPr>
              <a:t>operativo]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signación específica del material: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2d2db9"/>
                </a:solidFill>
                <a:latin typeface="Verdana"/>
              </a:rPr>
              <a:t>	</a:t>
            </a:r>
            <a:r>
              <a:rPr b="1" i="1" lang="es-ES" sz="2400" spc="-1" strike="noStrike">
                <a:solidFill>
                  <a:srgbClr val="2d2db9"/>
                </a:solidFill>
                <a:latin typeface="Verdana"/>
              </a:rPr>
              <a:t>Documentación variada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0" y="0"/>
            <a:ext cx="9524880" cy="714240"/>
          </a:xfrm>
          <a:prstGeom prst="rect">
            <a:avLst/>
          </a:prstGeom>
          <a:solidFill>
            <a:srgbClr val="008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2990880" y="1428840"/>
            <a:ext cx="3543120" cy="4362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"/>
          <p:cNvPicPr/>
          <p:nvPr/>
        </p:nvPicPr>
        <p:blipFill>
          <a:blip r:embed="rId2"/>
          <a:stretch/>
        </p:blipFill>
        <p:spPr>
          <a:xfrm>
            <a:off x="190440" y="0"/>
            <a:ext cx="1971720" cy="6858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685800" y="83808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Verdana"/>
              </a:rPr>
              <a:t>Tratamiento formal (3)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547560" y="2286000"/>
            <a:ext cx="830592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Nota de contenido con aclaración del soporte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2d2db9"/>
                </a:solidFill>
                <a:latin typeface="Verdana"/>
              </a:rPr>
              <a:t>Contenido: </a:t>
            </a: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1. Cuestionario del hogar, form CH1(electrónico) – 2. Cuestionario individual, form IH1 (impreso y electrónico) – 3. Módulo de historia ocupacional,  form IH2 (impreso y electrónico)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SzPct val="11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145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3"/>
          <p:cNvSpPr/>
          <p:nvPr/>
        </p:nvSpPr>
        <p:spPr>
          <a:xfrm>
            <a:off x="0" y="0"/>
            <a:ext cx="9524880" cy="714240"/>
          </a:xfrm>
          <a:prstGeom prst="rect">
            <a:avLst/>
          </a:prstGeom>
          <a:solidFill>
            <a:srgbClr val="008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1"/>
          <a:stretch/>
        </p:blipFill>
        <p:spPr>
          <a:xfrm>
            <a:off x="2990880" y="1428840"/>
            <a:ext cx="3543120" cy="4362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190440" y="0"/>
            <a:ext cx="1971720" cy="6858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053"/>
          <p:cNvSpPr/>
          <p:nvPr/>
        </p:nvSpPr>
        <p:spPr>
          <a:xfrm>
            <a:off x="685800" y="83808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Verdana"/>
              </a:rPr>
              <a:t>Puntos de acceso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1" name="Rectangle 2054"/>
          <p:cNvSpPr/>
          <p:nvPr/>
        </p:nvSpPr>
        <p:spPr>
          <a:xfrm>
            <a:off x="533520" y="2057400"/>
            <a:ext cx="8305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2d2db9"/>
                </a:solidFill>
                <a:latin typeface="Verdana"/>
              </a:rPr>
              <a:t>Buenos Aires. Dirección General de Estadística y Censos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2d2db9"/>
                </a:solidFill>
                <a:latin typeface="Verdana"/>
              </a:rPr>
              <a:t>Instituto Nacional de Estadística y Censos (Argentina)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SzPct val="11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145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0" y="0"/>
            <a:ext cx="9524880" cy="714240"/>
          </a:xfrm>
          <a:prstGeom prst="rect">
            <a:avLst/>
          </a:prstGeom>
          <a:solidFill>
            <a:srgbClr val="008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2990880" y="1428840"/>
            <a:ext cx="3543120" cy="4362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2"/>
          <a:stretch/>
        </p:blipFill>
        <p:spPr>
          <a:xfrm>
            <a:off x="190440" y="0"/>
            <a:ext cx="1971720" cy="6858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029"/>
          <p:cNvSpPr/>
          <p:nvPr/>
        </p:nvSpPr>
        <p:spPr>
          <a:xfrm>
            <a:off x="685800" y="83808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Verdana"/>
              </a:rPr>
              <a:t>Análisis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4000" spc="-1" strike="noStrike">
                <a:solidFill>
                  <a:srgbClr val="000000"/>
                </a:solidFill>
                <a:latin typeface="Verdana"/>
              </a:rPr>
              <a:t>de contenido (1)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6" name="Rectangle 1030"/>
          <p:cNvSpPr/>
          <p:nvPr/>
        </p:nvSpPr>
        <p:spPr>
          <a:xfrm>
            <a:off x="533520" y="2057400"/>
            <a:ext cx="83055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Descriptores temáticos (utilizados para toda la colección)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2d2db9"/>
                </a:solidFill>
                <a:latin typeface="Verdana"/>
              </a:rPr>
              <a:t>HOGARES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2d2db9"/>
                </a:solidFill>
                <a:latin typeface="Verdana"/>
              </a:rPr>
              <a:t>VIOLENCIA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2d2db9"/>
                </a:solidFill>
                <a:latin typeface="Verdana"/>
              </a:rPr>
              <a:t>FAMILIA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scriptores geográficos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2d2db9"/>
                </a:solidFill>
                <a:latin typeface="Verdana"/>
              </a:rPr>
              <a:t>CIUDAD DE BUENOS AIRES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2d2db9"/>
                </a:solidFill>
                <a:latin typeface="Verdana"/>
              </a:rPr>
              <a:t>MADRID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0" y="0"/>
            <a:ext cx="9524880" cy="714240"/>
          </a:xfrm>
          <a:prstGeom prst="rect">
            <a:avLst/>
          </a:prstGeom>
          <a:solidFill>
            <a:srgbClr val="008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2990880" y="1428840"/>
            <a:ext cx="3543120" cy="4362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2"/>
          <a:stretch/>
        </p:blipFill>
        <p:spPr>
          <a:xfrm>
            <a:off x="190440" y="0"/>
            <a:ext cx="1971720" cy="6858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5"/>
          <p:cNvSpPr/>
          <p:nvPr/>
        </p:nvSpPr>
        <p:spPr>
          <a:xfrm>
            <a:off x="685800" y="83808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nálisis de contenido (2)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457200" y="1905120"/>
            <a:ext cx="87631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Descriptor general de IRD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2d2db9"/>
                </a:solidFill>
                <a:latin typeface="Verdana"/>
              </a:rPr>
              <a:t>CUESTIONARIOS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uando incluye materiales de capacitación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2d2db9"/>
                </a:solidFill>
                <a:latin typeface="Verdana"/>
              </a:rPr>
              <a:t>CAPACITACION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2d2db9"/>
                </a:solidFill>
                <a:latin typeface="Verdana"/>
              </a:rPr>
              <a:t>MANUALES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ategoría temática primaria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2d2db9"/>
                </a:solidFill>
                <a:latin typeface="Verdana"/>
              </a:rPr>
              <a:t>OPERATIVOS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9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9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0" y="0"/>
            <a:ext cx="9524880" cy="714240"/>
          </a:xfrm>
          <a:prstGeom prst="rect">
            <a:avLst/>
          </a:prstGeom>
          <a:solidFill>
            <a:srgbClr val="008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33" name="Picture 6" descr=""/>
          <p:cNvPicPr/>
          <p:nvPr/>
        </p:nvPicPr>
        <p:blipFill>
          <a:blip r:embed="rId1"/>
          <a:stretch/>
        </p:blipFill>
        <p:spPr>
          <a:xfrm>
            <a:off x="2990880" y="1428840"/>
            <a:ext cx="3543120" cy="4362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"/>
          <p:cNvPicPr/>
          <p:nvPr/>
        </p:nvPicPr>
        <p:blipFill>
          <a:blip r:embed="rId2"/>
          <a:stretch/>
        </p:blipFill>
        <p:spPr>
          <a:xfrm>
            <a:off x="190440" y="0"/>
            <a:ext cx="1971720" cy="6858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685800" y="83808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Verdana"/>
              </a:rPr>
              <a:t>Análisis de contenido (3)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33520" y="2057400"/>
            <a:ext cx="83055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binación de descriptores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) </a:t>
            </a:r>
            <a:r>
              <a:rPr b="1" i="1" lang="es-ES_tradnl" sz="2000" spc="-1" strike="noStrike">
                <a:solidFill>
                  <a:srgbClr val="2d2db9"/>
                </a:solidFill>
                <a:latin typeface="Verdana"/>
              </a:rPr>
              <a:t>OPERATIVO PERMANENTE+OPERATIVO INTERNO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b) </a:t>
            </a:r>
            <a:r>
              <a:rPr b="1" i="1" lang="es-ES_tradnl" sz="2000" spc="-1" strike="noStrike">
                <a:solidFill>
                  <a:srgbClr val="2d2db9"/>
                </a:solidFill>
                <a:latin typeface="Verdana"/>
              </a:rPr>
              <a:t>OPERATIVO PERMANENTE+OPERATIVO EXTERNO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c) </a:t>
            </a:r>
            <a:r>
              <a:rPr b="1" i="1" lang="es-ES_tradnl" sz="2000" spc="-1" strike="noStrike">
                <a:solidFill>
                  <a:srgbClr val="2d2db9"/>
                </a:solidFill>
                <a:latin typeface="Verdana"/>
              </a:rPr>
              <a:t>OPERATIVO ESPECIAL + OPERATIVO INTERO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d) </a:t>
            </a:r>
            <a:r>
              <a:rPr b="1" i="1" lang="es-ES_tradnl" sz="2000" spc="-1" strike="noStrike">
                <a:solidFill>
                  <a:srgbClr val="2d2db9"/>
                </a:solidFill>
                <a:latin typeface="Verdana"/>
              </a:rPr>
              <a:t>OPERATIVO ESPECIAL + OPERATIVO EXTERNO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0" y="0"/>
            <a:ext cx="9524880" cy="714240"/>
          </a:xfrm>
          <a:prstGeom prst="rect">
            <a:avLst/>
          </a:prstGeom>
          <a:solidFill>
            <a:srgbClr val="008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2990880" y="1428840"/>
            <a:ext cx="3543120" cy="4362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"/>
          <p:cNvPicPr/>
          <p:nvPr/>
        </p:nvPicPr>
        <p:blipFill>
          <a:blip r:embed="rId2"/>
          <a:stretch/>
        </p:blipFill>
        <p:spPr>
          <a:xfrm>
            <a:off x="190440" y="0"/>
            <a:ext cx="1971720" cy="6858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685800" y="99072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Verdana"/>
              </a:rPr>
              <a:t>Resumen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685800" y="23623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trabajo describe la metodología propuesta e implementada en el Sector Centro de Documentación de la Dirección General de Estadística y Censos de la Ciudad de Buenos Aires y los resultados alcanzados en la gestión del grupo documental denominado </a:t>
            </a:r>
            <a:r>
              <a:rPr b="1" lang="es-ES" sz="2400" spc="-1" strike="noStrike">
                <a:solidFill>
                  <a:srgbClr val="2d2db9"/>
                </a:solidFill>
                <a:latin typeface="Verdana"/>
              </a:rPr>
              <a:t>“instrumentos de recolección, apoyo y complementario”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a los operativos  que posibilitan la recolección de datos para la producción de estadísticas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3"/>
          <p:cNvSpPr/>
          <p:nvPr/>
        </p:nvSpPr>
        <p:spPr>
          <a:xfrm>
            <a:off x="0" y="0"/>
            <a:ext cx="9524880" cy="714240"/>
          </a:xfrm>
          <a:prstGeom prst="rect">
            <a:avLst/>
          </a:prstGeom>
          <a:solidFill>
            <a:srgbClr val="008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1"/>
          <a:stretch/>
        </p:blipFill>
        <p:spPr>
          <a:xfrm>
            <a:off x="2990880" y="1428840"/>
            <a:ext cx="3543120" cy="4362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"/>
          <p:cNvPicPr/>
          <p:nvPr/>
        </p:nvPicPr>
        <p:blipFill>
          <a:blip r:embed="rId2"/>
          <a:stretch/>
        </p:blipFill>
        <p:spPr>
          <a:xfrm>
            <a:off x="190440" y="0"/>
            <a:ext cx="1971720" cy="6858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5"/>
          <p:cNvSpPr/>
          <p:nvPr/>
        </p:nvSpPr>
        <p:spPr>
          <a:xfrm>
            <a:off x="685800" y="83808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Verdana"/>
              </a:rPr>
              <a:t>Signatura topográfica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369720" y="1989000"/>
            <a:ext cx="87631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l número que corresponde a la </a:t>
            </a:r>
            <a:r>
              <a:rPr b="1" lang="it-IT" sz="2400" spc="-1" strike="noStrike">
                <a:solidFill>
                  <a:srgbClr val="3333cc"/>
                </a:solidFill>
                <a:latin typeface="Verdana"/>
              </a:rPr>
              <a:t>facet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“Demografía, investigación y metodología”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2d2db9"/>
                </a:solidFill>
                <a:latin typeface="Verdana"/>
              </a:rPr>
              <a:t>	</a:t>
            </a:r>
            <a:r>
              <a:rPr b="1" i="1" lang="it-IT" sz="2400" spc="-1" strike="noStrike">
                <a:solidFill>
                  <a:srgbClr val="2d2db9"/>
                </a:solidFill>
                <a:latin typeface="Verdana"/>
              </a:rPr>
              <a:t>01.00.00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Verdana"/>
              </a:rPr>
              <a:t>Sigl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del operativo y </a:t>
            </a:r>
            <a:r>
              <a:rPr b="1" lang="it-IT" sz="2400" spc="-1" strike="noStrike">
                <a:solidFill>
                  <a:srgbClr val="3333cc"/>
                </a:solidFill>
                <a:latin typeface="Verdana"/>
              </a:rPr>
              <a:t>añ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de realización: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2d2db9"/>
                </a:solidFill>
                <a:latin typeface="Verdana"/>
              </a:rPr>
              <a:t>01.00.00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2d2db9"/>
                </a:solidFill>
                <a:latin typeface="Verdana"/>
              </a:rPr>
              <a:t>EAH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2d2db9"/>
                </a:solidFill>
                <a:latin typeface="Verdana"/>
              </a:rPr>
              <a:t>2007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9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9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-4168800" y="3016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0" y="0"/>
            <a:ext cx="9524880" cy="714240"/>
          </a:xfrm>
          <a:prstGeom prst="rect">
            <a:avLst/>
          </a:prstGeom>
          <a:solidFill>
            <a:srgbClr val="008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2990880" y="1428840"/>
            <a:ext cx="3543120" cy="4362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"/>
          <p:cNvPicPr/>
          <p:nvPr/>
        </p:nvPicPr>
        <p:blipFill>
          <a:blip r:embed="rId2"/>
          <a:stretch/>
        </p:blipFill>
        <p:spPr>
          <a:xfrm>
            <a:off x="190440" y="0"/>
            <a:ext cx="1971720" cy="6858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5"/>
          <p:cNvSpPr/>
          <p:nvPr/>
        </p:nvSpPr>
        <p:spPr>
          <a:xfrm>
            <a:off x="685800" y="83808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Verdana"/>
              </a:rPr>
              <a:t>Preparación física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369720" y="1989000"/>
            <a:ext cx="87631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utor institucional normalizado con AACR2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ítulo propiamente dicho del operativo y año de realización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ubtítulo uniforme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ugar, editor y fecha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ntenido del grupo documental numerado secuencialmente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n la esquina inferior izquierda dentro de un recuadro la signatura topográfica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457200" indent="-457200">
              <a:buClr>
                <a:srgbClr val="00cc9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-4168800" y="3016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3"/>
          <p:cNvSpPr/>
          <p:nvPr/>
        </p:nvSpPr>
        <p:spPr>
          <a:xfrm>
            <a:off x="0" y="0"/>
            <a:ext cx="9524880" cy="714240"/>
          </a:xfrm>
          <a:prstGeom prst="rect">
            <a:avLst/>
          </a:prstGeom>
          <a:solidFill>
            <a:srgbClr val="008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2990880" y="1428840"/>
            <a:ext cx="3543120" cy="4362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2"/>
          <a:stretch/>
        </p:blipFill>
        <p:spPr>
          <a:xfrm>
            <a:off x="190440" y="0"/>
            <a:ext cx="1971720" cy="6858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5"/>
          <p:cNvSpPr/>
          <p:nvPr/>
        </p:nvSpPr>
        <p:spPr>
          <a:xfrm>
            <a:off x="619200" y="785880"/>
            <a:ext cx="7772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Portada sistematizada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2690640" y="1857240"/>
            <a:ext cx="3714840" cy="457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Instituto Nacional de Estadística y Censos (Argentina)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Censo de población, hogares y vivienda 2000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[Instrumentos de recolección y apoyo al operativo]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Buenos Aires: INDEC, 1999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Contenido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 1) Formulario. 2) Listado de documentos. 3) Sobre del censista. 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4) Carátula del segmento de hogares. 5) Cronograma de relevamiento. 6) Planilla de recorrido censal.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4724280" y="2438280"/>
            <a:ext cx="3505320" cy="35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90000" tIns="9144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5" name="8 Rectángulo"/>
          <p:cNvSpPr/>
          <p:nvPr/>
        </p:nvSpPr>
        <p:spPr>
          <a:xfrm>
            <a:off x="2905200" y="5143680"/>
            <a:ext cx="1000080" cy="107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01.00.00</a:t>
            </a:r>
            <a:endParaRPr b="0" lang="en-US" sz="9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CNP</a:t>
            </a:r>
            <a:endParaRPr b="0" lang="en-US" sz="9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2000</a:t>
            </a:r>
            <a:endParaRPr b="0" lang="en-US" sz="9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4ª prueba piloto / censo experimental</a:t>
            </a:r>
            <a:endParaRPr b="0" lang="en-US" sz="9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3"/>
          <p:cNvSpPr/>
          <p:nvPr/>
        </p:nvSpPr>
        <p:spPr>
          <a:xfrm>
            <a:off x="0" y="0"/>
            <a:ext cx="9524880" cy="714240"/>
          </a:xfrm>
          <a:prstGeom prst="rect">
            <a:avLst/>
          </a:prstGeom>
          <a:solidFill>
            <a:srgbClr val="008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2990880" y="1428840"/>
            <a:ext cx="3543120" cy="4362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"/>
          <p:cNvPicPr/>
          <p:nvPr/>
        </p:nvPicPr>
        <p:blipFill>
          <a:blip r:embed="rId2"/>
          <a:stretch/>
        </p:blipFill>
        <p:spPr>
          <a:xfrm>
            <a:off x="190440" y="0"/>
            <a:ext cx="197172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5"/>
          <p:cNvSpPr/>
          <p:nvPr/>
        </p:nvSpPr>
        <p:spPr>
          <a:xfrm>
            <a:off x="609480" y="990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Registro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1762200" y="2286000"/>
            <a:ext cx="5857920" cy="342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Argentina. Ministerio de Salud y Ambiente de La Nación; Instituto Nacional de Estadística y Censos (Argentina)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Encuesta nacional de factores de riesgo 2005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[instrumentos de recolección y apoyo al operativo]. Buenos Aires: INDEC, 2005. Documentación variada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=&gt; Ubicación: 01.00.00/ENFR 2005 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Contenido: 1. cuestionario individual (18 años y más) -- 2. cuestionario del hogar  -- 3. manual del sistema de ingreso -- 4. manual del coordinador, organización del trabajo de campo -- 5. manual del supervisor -- 6. manual del ingresador/analista de datos -- 7. manual de consistencias -- 8. manual del encuestador -- 9. constancia anexo I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Descriptores: ARGENTINA; SALUD; CONDICIONES DE VIDA; VIOLENCIA;  CUESTIONARIOS; CAPACITACION; MANUALES; OPERATIVO EXTERNO; OPERATIVO ESPECIAL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Categoría primaria: OPERATIVOS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4724280" y="2438280"/>
            <a:ext cx="3505320" cy="35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90000" tIns="9144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62" name="Rectangle 1"/>
          <p:cNvSpPr/>
          <p:nvPr/>
        </p:nvSpPr>
        <p:spPr>
          <a:xfrm>
            <a:off x="3892320" y="-61560"/>
            <a:ext cx="173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01.00.00</a:t>
            </a:r>
            <a:endParaRPr b="0" lang="en-US" sz="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CNP</a:t>
            </a:r>
            <a:endParaRPr b="0" lang="en-US" sz="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2000</a:t>
            </a:r>
            <a:endParaRPr b="0" lang="en-US" sz="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4ª prueba piloto / censo experimental </a:t>
            </a:r>
            <a:endParaRPr b="0" lang="en-US" sz="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3"/>
          <p:cNvSpPr/>
          <p:nvPr/>
        </p:nvSpPr>
        <p:spPr>
          <a:xfrm>
            <a:off x="0" y="0"/>
            <a:ext cx="9524880" cy="714240"/>
          </a:xfrm>
          <a:prstGeom prst="rect">
            <a:avLst/>
          </a:prstGeom>
          <a:solidFill>
            <a:srgbClr val="008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64" name="Picture 6" descr=""/>
          <p:cNvPicPr/>
          <p:nvPr/>
        </p:nvPicPr>
        <p:blipFill>
          <a:blip r:embed="rId1"/>
          <a:stretch/>
        </p:blipFill>
        <p:spPr>
          <a:xfrm>
            <a:off x="2990880" y="1428840"/>
            <a:ext cx="3543120" cy="43624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"/>
          <p:cNvPicPr/>
          <p:nvPr/>
        </p:nvPicPr>
        <p:blipFill>
          <a:blip r:embed="rId2"/>
          <a:stretch/>
        </p:blipFill>
        <p:spPr>
          <a:xfrm>
            <a:off x="190440" y="0"/>
            <a:ext cx="1971720" cy="6858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5"/>
          <p:cNvSpPr/>
          <p:nvPr/>
        </p:nvSpPr>
        <p:spPr>
          <a:xfrm>
            <a:off x="476280" y="71424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Verdana"/>
              </a:rPr>
              <a:t>Resultados y conclusiones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547560" y="1500120"/>
            <a:ext cx="83059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sta metodología facilitó: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d2db9"/>
                </a:solidFill>
                <a:latin typeface="Verdana"/>
              </a:rPr>
              <a:t>Organización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del grupo documental dentro de la colección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d2db9"/>
                </a:solidFill>
                <a:latin typeface="Verdana"/>
              </a:rPr>
              <a:t>Identificación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de procedencia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d2db9"/>
                </a:solidFill>
                <a:latin typeface="Verdana"/>
              </a:rPr>
              <a:t>Unificación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física de los distintos ítems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d2db9"/>
                </a:solidFill>
                <a:latin typeface="Verdana"/>
              </a:rPr>
              <a:t>Mantenimiento conjunto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de las versiones piloto y definitivas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d2db9"/>
                </a:solidFill>
                <a:latin typeface="Verdana"/>
              </a:rPr>
              <a:t>Conservación de la memoria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documental del DGEyC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d2db9"/>
                </a:solidFill>
                <a:latin typeface="Verdana"/>
              </a:rPr>
              <a:t>Toma de conciencia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 los responsables de operativos para que hicieran efectivo el envío de los ítems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d2db9"/>
                </a:solidFill>
                <a:latin typeface="Verdana"/>
              </a:rPr>
              <a:t>Recuperación y utilización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de los IRD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SzPct val="11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145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3"/>
          <p:cNvSpPr/>
          <p:nvPr/>
        </p:nvSpPr>
        <p:spPr>
          <a:xfrm>
            <a:off x="0" y="0"/>
            <a:ext cx="9524880" cy="714240"/>
          </a:xfrm>
          <a:prstGeom prst="rect">
            <a:avLst/>
          </a:prstGeom>
          <a:solidFill>
            <a:srgbClr val="008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69" name="Picture 6" descr=""/>
          <p:cNvPicPr/>
          <p:nvPr/>
        </p:nvPicPr>
        <p:blipFill>
          <a:blip r:embed="rId1"/>
          <a:stretch/>
        </p:blipFill>
        <p:spPr>
          <a:xfrm>
            <a:off x="2990880" y="1428840"/>
            <a:ext cx="3543120" cy="4362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"/>
          <p:cNvPicPr/>
          <p:nvPr/>
        </p:nvPicPr>
        <p:blipFill>
          <a:blip r:embed="rId2"/>
          <a:stretch/>
        </p:blipFill>
        <p:spPr>
          <a:xfrm>
            <a:off x="190440" y="0"/>
            <a:ext cx="1971720" cy="6858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685800" y="83808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619200" y="1357200"/>
            <a:ext cx="830556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speramos que la metodología pueda ser aprovechada y utilizada por otras organizaciones que cuenten con este tipo de documentos en sus colecciones. Agradecemos de antemano los comentarios y sugerencias que nuestros colegas puedan aportar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Verdana"/>
              </a:rPr>
              <a:t>Muchas gracias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ilvia Texidor - Carolina Mutti</a:t>
            </a: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cdocumentacion_estadistica@buenosaires.gov.ar</a:t>
            </a:r>
            <a:r>
              <a:rPr b="1" i="1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SzPct val="11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145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0" y="0"/>
            <a:ext cx="9524880" cy="714240"/>
          </a:xfrm>
          <a:prstGeom prst="rect">
            <a:avLst/>
          </a:prstGeom>
          <a:solidFill>
            <a:srgbClr val="008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2990880" y="1428840"/>
            <a:ext cx="3543120" cy="4362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2"/>
          <a:stretch/>
        </p:blipFill>
        <p:spPr>
          <a:xfrm>
            <a:off x="190440" y="0"/>
            <a:ext cx="1971720" cy="6858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029"/>
          <p:cNvSpPr/>
          <p:nvPr/>
        </p:nvSpPr>
        <p:spPr>
          <a:xfrm>
            <a:off x="685800" y="99072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Verdana"/>
              </a:rPr>
              <a:t>Sumario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6" name="Rectangle 1030"/>
          <p:cNvSpPr/>
          <p:nvPr/>
        </p:nvSpPr>
        <p:spPr>
          <a:xfrm>
            <a:off x="685800" y="23623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troducción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Objetivos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finición y alcance del grupo documental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Grupo documental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ipología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Versiones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ratamiento y análisis documental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eparación física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sultados y conclusiones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0" y="0"/>
            <a:ext cx="9524880" cy="714240"/>
          </a:xfrm>
          <a:prstGeom prst="rect">
            <a:avLst/>
          </a:prstGeom>
          <a:solidFill>
            <a:srgbClr val="008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2990880" y="1428840"/>
            <a:ext cx="3543120" cy="4362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"/>
          <p:cNvPicPr/>
          <p:nvPr/>
        </p:nvPicPr>
        <p:blipFill>
          <a:blip r:embed="rId2"/>
          <a:stretch/>
        </p:blipFill>
        <p:spPr>
          <a:xfrm>
            <a:off x="190440" y="0"/>
            <a:ext cx="1971720" cy="6858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029"/>
          <p:cNvSpPr/>
          <p:nvPr/>
        </p:nvSpPr>
        <p:spPr>
          <a:xfrm>
            <a:off x="685800" y="83808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Verdana"/>
              </a:rPr>
              <a:t>Introducción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1" name="Rectangle 1030"/>
          <p:cNvSpPr/>
          <p:nvPr/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rencia de normativas o metodologías específicas para la organización documental de los instrumentos de recolección y apoyo a los operativos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junto mixto de materiales no librarios que, impresos y en versión electrónica, presentan dificultades para su gestión y tratamiento documental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0" y="0"/>
            <a:ext cx="9524880" cy="714240"/>
          </a:xfrm>
          <a:prstGeom prst="rect">
            <a:avLst/>
          </a:prstGeom>
          <a:solidFill>
            <a:srgbClr val="008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2990880" y="1428840"/>
            <a:ext cx="3543120" cy="4362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/>
          <p:cNvPicPr/>
          <p:nvPr/>
        </p:nvPicPr>
        <p:blipFill>
          <a:blip r:embed="rId2"/>
          <a:stretch/>
        </p:blipFill>
        <p:spPr>
          <a:xfrm>
            <a:off x="190440" y="0"/>
            <a:ext cx="1971720" cy="6858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028"/>
          <p:cNvSpPr/>
          <p:nvPr/>
        </p:nvSpPr>
        <p:spPr>
          <a:xfrm>
            <a:off x="685800" y="99072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Verdana"/>
              </a:rPr>
              <a:t>Objetivos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6" name="Rectangle 1029"/>
          <p:cNvSpPr/>
          <p:nvPr/>
        </p:nvSpPr>
        <p:spPr>
          <a:xfrm>
            <a:off x="658800" y="2209680"/>
            <a:ext cx="8229600" cy="42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d2db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d2db9"/>
                </a:solidFill>
                <a:latin typeface="Verdana"/>
              </a:rPr>
              <a:t>Organizar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 manera sistematizada el grupo documental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d2db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d2db9"/>
                </a:solidFill>
                <a:latin typeface="Verdana"/>
              </a:rPr>
              <a:t>Facilitar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acceso y la recuperación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d2db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d2db9"/>
                </a:solidFill>
                <a:latin typeface="Verdana"/>
              </a:rPr>
              <a:t>Mantene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una memoria institucional de los instrumentos de recolección, apoyo y complementarios de los operativos de la DGEyC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0" y="0"/>
            <a:ext cx="9524880" cy="714240"/>
          </a:xfrm>
          <a:prstGeom prst="rect">
            <a:avLst/>
          </a:prstGeom>
          <a:solidFill>
            <a:srgbClr val="008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2990880" y="1428840"/>
            <a:ext cx="3543120" cy="4362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2"/>
          <a:stretch/>
        </p:blipFill>
        <p:spPr>
          <a:xfrm>
            <a:off x="190440" y="0"/>
            <a:ext cx="1971720" cy="6858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028"/>
          <p:cNvSpPr/>
          <p:nvPr/>
        </p:nvSpPr>
        <p:spPr>
          <a:xfrm>
            <a:off x="685800" y="99072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Verdana"/>
              </a:rPr>
              <a:t>Definición y alcance (1)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1" name="Rectangle 1029"/>
          <p:cNvSpPr/>
          <p:nvPr/>
        </p:nvSpPr>
        <p:spPr>
          <a:xfrm>
            <a:off x="658800" y="1928880"/>
            <a:ext cx="822960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d2db9"/>
                </a:solidFill>
                <a:latin typeface="Verdana"/>
              </a:rPr>
              <a:t>Instrumento de recolección:</a:t>
            </a:r>
            <a:r>
              <a:rPr b="0" lang="es-ES" sz="2400" spc="-1" strike="noStrike">
                <a:solidFill>
                  <a:srgbClr val="2d2db9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uestionario que permite la captación de datos durante el trabajo de campo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2d2db9"/>
                </a:solidFill>
                <a:latin typeface="Verdana"/>
              </a:rPr>
              <a:t>Material de apoyo: </a:t>
            </a: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todo aquel material que acompañe al operativo de campo (credencial,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arta al vecino, notificación, etc.)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2d2db9"/>
                </a:solidFill>
                <a:latin typeface="Verdana"/>
              </a:rPr>
              <a:t>Material complementario: </a:t>
            </a: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todo aquel material relacionado con el operativo, pero que no acompañe el trabajo de campo  (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anuales, guías de capacitación, etc.)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0" y="0"/>
            <a:ext cx="9524880" cy="714240"/>
          </a:xfrm>
          <a:prstGeom prst="rect">
            <a:avLst/>
          </a:prstGeom>
          <a:solidFill>
            <a:srgbClr val="008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2990880" y="1428840"/>
            <a:ext cx="3543120" cy="4362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"/>
          <p:cNvPicPr/>
          <p:nvPr/>
        </p:nvPicPr>
        <p:blipFill>
          <a:blip r:embed="rId2"/>
          <a:stretch/>
        </p:blipFill>
        <p:spPr>
          <a:xfrm>
            <a:off x="190440" y="0"/>
            <a:ext cx="1971720" cy="6858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5"/>
          <p:cNvSpPr/>
          <p:nvPr/>
        </p:nvSpPr>
        <p:spPr>
          <a:xfrm>
            <a:off x="685800" y="8380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Verdana"/>
              </a:rPr>
              <a:t>Definición y alcance (2)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685800" y="1981080"/>
            <a:ext cx="8434440" cy="43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ntro del grupo documental mencionado, consideramos al </a:t>
            </a:r>
            <a:r>
              <a:rPr b="1" lang="es-ES" sz="2400" spc="-1" strike="noStrike">
                <a:solidFill>
                  <a:srgbClr val="2d2db9"/>
                </a:solidFill>
                <a:latin typeface="Verdana"/>
              </a:rPr>
              <a:t>“cuestionario”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mo el documento principal y sobre el cual se origina la descripción. 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l </a:t>
            </a:r>
            <a:r>
              <a:rPr b="0" lang="es-ES_tradnl" sz="2400" spc="-1" strike="noStrike">
                <a:solidFill>
                  <a:srgbClr val="2d2db9"/>
                </a:solidFill>
                <a:latin typeface="Verdana"/>
              </a:rPr>
              <a:t>“</a:t>
            </a:r>
            <a:r>
              <a:rPr b="1" lang="es-ES_tradnl" sz="2400" spc="-1" strike="noStrike">
                <a:solidFill>
                  <a:srgbClr val="2d2db9"/>
                </a:solidFill>
                <a:latin typeface="Verdana"/>
              </a:rPr>
              <a:t>cuestionario”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el instrumentos utilizado en forma predominante para la realización de operativos con la finalidad la obtención de datos primario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denominación </a:t>
            </a:r>
            <a:r>
              <a:rPr b="1" lang="es-ES_tradnl" sz="2400" spc="-1" strike="noStrike">
                <a:solidFill>
                  <a:srgbClr val="2d2db9"/>
                </a:solidFill>
                <a:latin typeface="Verdana"/>
              </a:rPr>
              <a:t>“formulario”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utiliza como sinónimo de cuestionario en el diseño de instrumentos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0" y="0"/>
            <a:ext cx="9524880" cy="714240"/>
          </a:xfrm>
          <a:prstGeom prst="rect">
            <a:avLst/>
          </a:prstGeom>
          <a:solidFill>
            <a:srgbClr val="008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2990880" y="1428840"/>
            <a:ext cx="3543120" cy="4362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2"/>
          <a:stretch/>
        </p:blipFill>
        <p:spPr>
          <a:xfrm>
            <a:off x="190440" y="0"/>
            <a:ext cx="1971720" cy="6858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028"/>
          <p:cNvSpPr/>
          <p:nvPr/>
        </p:nvSpPr>
        <p:spPr>
          <a:xfrm>
            <a:off x="685800" y="99072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Verdana"/>
              </a:rPr>
              <a:t>Grupo documental (1) 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1" name="Rectangle 1029"/>
          <p:cNvSpPr/>
          <p:nvPr/>
        </p:nvSpPr>
        <p:spPr>
          <a:xfrm>
            <a:off x="658800" y="2209680"/>
            <a:ext cx="8229600" cy="42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uestionarios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redenciales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artas al vecino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visos de notificación de visita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ertificados de cumplimiento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tas de incumplimiento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anuales del personal del operativo (censistas, jefes de radio, supervisores, etc.)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0" y="0"/>
            <a:ext cx="9524880" cy="714240"/>
          </a:xfrm>
          <a:prstGeom prst="rect">
            <a:avLst/>
          </a:prstGeom>
          <a:solidFill>
            <a:srgbClr val="008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1"/>
          <a:stretch/>
        </p:blipFill>
        <p:spPr>
          <a:xfrm>
            <a:off x="2990880" y="1428840"/>
            <a:ext cx="3543120" cy="4362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2"/>
          <a:stretch/>
        </p:blipFill>
        <p:spPr>
          <a:xfrm>
            <a:off x="190440" y="0"/>
            <a:ext cx="1971720" cy="6858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028"/>
          <p:cNvSpPr/>
          <p:nvPr/>
        </p:nvSpPr>
        <p:spPr>
          <a:xfrm>
            <a:off x="685800" y="99072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Verdana"/>
              </a:rPr>
              <a:t>Grupo documental (2)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6" name="Rectangle 1029"/>
          <p:cNvSpPr/>
          <p:nvPr/>
        </p:nvSpPr>
        <p:spPr>
          <a:xfrm>
            <a:off x="658800" y="2209680"/>
            <a:ext cx="8229600" cy="42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nstrucciones para el llenado del cuestionario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nstrucciones dadas en la capacitación a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ensistas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lanillas de recorrido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ódigos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ronogramas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rípticos de promoción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tc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9T14:28:26Z</dcterms:created>
  <dc:creator>Diseño46</dc:creator>
  <dc:description/>
  <dc:language>en-US</dc:language>
  <cp:lastModifiedBy>stexidor</cp:lastModifiedBy>
  <dcterms:modified xsi:type="dcterms:W3CDTF">2009-11-19T10:45:04Z</dcterms:modified>
  <cp:revision>81</cp:revision>
  <dc:subject/>
  <dc:title>Presentación de PowerPoint</dc:title>
</cp:coreProperties>
</file>