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942-A6A0-4BB8-BD37-A6B04BA1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6EB-245D-4440-AC16-59818025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6F5-7155-49E0-8F88-F973F484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932-D0DA-4AF3-8977-3F77AB59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323-BE08-4AAA-883F-B111DA18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F11-8212-4F18-BBA0-62DBF811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87C-884A-4669-973F-018A9C3C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82A-0224-416B-8F8C-500F0AFC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209-92B2-4165-A9E5-DC8BE788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985-BAA1-46B7-B555-330DB80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54D-01DA-41D2-98EF-3597BDD3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578-634C-4BBF-945C-46F7F1F7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DB8A-F0BB-4C17-A3BA-8DCFF35762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NEXO 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YECTO NUEVO S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585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62485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120" y="6202440"/>
            <a:ext cx="38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obiliario ( Recepción – Despacho – Supervisió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514600"/>
            <a:ext cx="990360" cy="304920"/>
          </a:xfrm>
          <a:prstGeom prst="leftArrow">
            <a:avLst>
              <a:gd name="adj1" fmla="val 50000"/>
              <a:gd name="adj2" fmla="val 8119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49179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18000" y="621828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73880" y="617220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illón ( Tecnología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14600" y="1676520"/>
            <a:ext cx="990720" cy="304560"/>
          </a:xfrm>
          <a:prstGeom prst="leftArrow">
            <a:avLst>
              <a:gd name="adj1" fmla="val 50000"/>
              <a:gd name="adj2" fmla="val 813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299800">
            <a:off x="4533840" y="2019240"/>
            <a:ext cx="990360" cy="304560"/>
          </a:xfrm>
          <a:prstGeom prst="leftArrow">
            <a:avLst>
              <a:gd name="adj1" fmla="val 50000"/>
              <a:gd name="adj2" fmla="val 81294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457200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342900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06600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01992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entro de ope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6370560"/>
            <a:ext cx="152280" cy="152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9440" y="632448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Semicir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60660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960" y="60199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scal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55840" y="637524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8120" y="63295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6172200" y="2819520"/>
            <a:ext cx="990720" cy="304560"/>
          </a:xfrm>
          <a:prstGeom prst="leftArrow">
            <a:avLst>
              <a:gd name="adj1" fmla="val 50000"/>
              <a:gd name="adj2" fmla="val 81324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6078600"/>
            <a:ext cx="15228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60325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3381480"/>
            <a:ext cx="5562720" cy="3476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4832280" cy="3906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3880" y="1828800"/>
            <a:ext cx="914400" cy="914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4495680"/>
            <a:ext cx="914400" cy="9144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73480" y="2548080"/>
            <a:ext cx="297180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8601000">
            <a:off x="2285640" y="1447560"/>
            <a:ext cx="990720" cy="304560"/>
          </a:xfrm>
          <a:prstGeom prst="leftArrow">
            <a:avLst>
              <a:gd name="adj1" fmla="val 50000"/>
              <a:gd name="adj2" fmla="val 813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9224600">
            <a:off x="609120" y="2819520"/>
            <a:ext cx="990720" cy="304560"/>
          </a:xfrm>
          <a:prstGeom prst="leftArrow">
            <a:avLst>
              <a:gd name="adj1" fmla="val 50000"/>
              <a:gd name="adj2" fmla="val 81324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8978000">
            <a:off x="4876920" y="5181120"/>
            <a:ext cx="990360" cy="304920"/>
          </a:xfrm>
          <a:prstGeom prst="leftArrow">
            <a:avLst>
              <a:gd name="adj1" fmla="val 50000"/>
              <a:gd name="adj2" fmla="val 8119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90920" y="4724280"/>
            <a:ext cx="990360" cy="304920"/>
          </a:xfrm>
          <a:prstGeom prst="leftArrow">
            <a:avLst>
              <a:gd name="adj1" fmla="val 50000"/>
              <a:gd name="adj2" fmla="val 8119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621828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920" y="617220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Nivel del pi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6200000">
            <a:off x="2324160" y="1104480"/>
            <a:ext cx="990360" cy="304920"/>
          </a:xfrm>
          <a:prstGeom prst="leftArrow">
            <a:avLst>
              <a:gd name="adj1" fmla="val 50000"/>
              <a:gd name="adj2" fmla="val 8119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621828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6172200"/>
            <a:ext cx="24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amaño Centro de Ope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320" y="0"/>
            <a:ext cx="9144000" cy="5346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579420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2080" y="5748480"/>
            <a:ext cx="379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ipo de mesa 7 puestos ( Centro de operacion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4000320" y="209520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628164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4240" y="623556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eléfonos 7 pu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2019240" y="723960"/>
            <a:ext cx="990720" cy="304560"/>
          </a:xfrm>
          <a:prstGeom prst="leftArrow">
            <a:avLst>
              <a:gd name="adj1" fmla="val 50000"/>
              <a:gd name="adj2" fmla="val 81324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324480" y="242568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21828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200" y="617220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antallas ( Tecnología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066680"/>
            <a:ext cx="990360" cy="304920"/>
          </a:xfrm>
          <a:prstGeom prst="leftArrow">
            <a:avLst>
              <a:gd name="adj1" fmla="val 50000"/>
              <a:gd name="adj2" fmla="val 8119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30388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080" y="525780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onitores 17’ LCD 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28600"/>
            <a:ext cx="274320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099680" y="261720"/>
            <a:ext cx="2773440" cy="1229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971800"/>
            <a:ext cx="990360" cy="304920"/>
          </a:xfrm>
          <a:prstGeom prst="leftArrow">
            <a:avLst>
              <a:gd name="adj1" fmla="val 50000"/>
              <a:gd name="adj2" fmla="val 8119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8672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720" y="5821200"/>
            <a:ext cx="38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obiliario ( Recepción – Despacho – Supervisió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990360" cy="304920"/>
          </a:xfrm>
          <a:prstGeom prst="left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40080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600" y="635472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eléfonos fij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600" y="-3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594360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5680" y="5897520"/>
            <a:ext cx="757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ctividades de soporte ( PADU – Coordinación Medica - 0800Pediatra – 0800Mama – Hemoderivado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838400" y="346680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6286680" y="2247480"/>
            <a:ext cx="990360" cy="304920"/>
          </a:xfrm>
          <a:prstGeom prst="left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7810200" y="118080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181120" y="2362320"/>
            <a:ext cx="30492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959000" y="2680920"/>
            <a:ext cx="749160" cy="47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771720" y="186660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620568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0080" y="6159600"/>
            <a:ext cx="32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upervisión ( Concepto de ultimo puesto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2400120" y="232380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3314880" y="1333080"/>
            <a:ext cx="990360" cy="304920"/>
          </a:xfrm>
          <a:prstGeom prst="leftArrow">
            <a:avLst>
              <a:gd name="adj1" fmla="val 50000"/>
              <a:gd name="adj2" fmla="val 8119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5372280" y="1104480"/>
            <a:ext cx="990360" cy="304920"/>
          </a:xfrm>
          <a:prstGeom prst="leftArrow">
            <a:avLst>
              <a:gd name="adj1" fmla="val 50000"/>
              <a:gd name="adj2" fmla="val 8119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560" y="643104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gul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01:27:49Z</dcterms:created>
  <dc:creator>cwidman</dc:creator>
  <dc:description/>
  <dc:language>en-US</dc:language>
  <cp:lastModifiedBy>PC</cp:lastModifiedBy>
  <dcterms:modified xsi:type="dcterms:W3CDTF">2009-05-09T02:40:35Z</dcterms:modified>
  <cp:revision>17</cp:revision>
  <dc:subject/>
  <dc:title>Presentación de PowerPoint</dc:title>
</cp:coreProperties>
</file>